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98F-1207-47A5-A20B-857CA2D1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E435-7576-4E45-BDD8-EC6BBDCB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2DA-CCE8-4541-971B-FF37BB492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5D3B-EBF2-410A-AB25-39B9646C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52F5-6903-43FD-98AE-01C912A4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5EA5-5835-435E-8F2A-5E09F351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E451-AAF5-424C-AE2D-CD7D32B7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770-10C6-44D6-8E6F-4708C658A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EFA5-F4A4-427A-9375-448F96BB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AC9E-6452-4A1D-A03C-B13AC7E9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C59F-E5E3-4AA6-A8FC-190EC0B3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ED9-94EE-46A9-9E81-F405CC44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26F1-F944-407E-9B69-B8B2C97BBBE9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1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oject and Pres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Line 6"/>
          <p:cNvSpPr/>
          <p:nvPr/>
        </p:nvSpPr>
        <p:spPr>
          <a:xfrm>
            <a:off x="1828800" y="449568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-12600" bIns="-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E:\Temp\VVSU\Java\aca_wht\academy_wht.bmp"/>
          <p:cNvPicPr/>
          <p:nvPr/>
        </p:nvPicPr>
        <p:blipFill>
          <a:blip r:embed="rId1"/>
          <a:stretch/>
        </p:blipFill>
        <p:spPr>
          <a:xfrm>
            <a:off x="304920" y="304920"/>
            <a:ext cx="1993680" cy="622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ttp://www.vvsu.ru/photos/F7422167_3C18_4575_883E_8A682F0EB6D7_94x199.jpg"/>
          <p:cNvPicPr/>
          <p:nvPr/>
        </p:nvPicPr>
        <p:blipFill>
          <a:blip r:embed="rId2"/>
          <a:stretch/>
        </p:blipFill>
        <p:spPr>
          <a:xfrm>
            <a:off x="533520" y="762120"/>
            <a:ext cx="477720" cy="101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6400800"/>
            <a:ext cx="91440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bject 4"/>
          <p:cNvSpPr/>
          <p:nvPr/>
        </p:nvSpPr>
        <p:spPr>
          <a:xfrm>
            <a:off x="792000" y="1919160"/>
            <a:ext cx="7902720" cy="35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fter all 15 questions have been attempted, the teams can play the Doubl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the amounts range from $200 to $1,000. This is double what the values were in the Jeopardy rou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y is the same in this round as it was in the previous round, except there are three new categor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 two player/team game, the team that scores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Double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bject 4"/>
          <p:cNvSpPr/>
          <p:nvPr/>
        </p:nvSpPr>
        <p:spPr>
          <a:xfrm>
            <a:off x="2436840" y="1836720"/>
            <a:ext cx="4192560" cy="9223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bject 6"/>
          <p:cNvSpPr/>
          <p:nvPr/>
        </p:nvSpPr>
        <p:spPr>
          <a:xfrm>
            <a:off x="2789280" y="2908440"/>
            <a:ext cx="3565440" cy="34812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bject 4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object 5"/>
          <p:cNvSpPr/>
          <p:nvPr/>
        </p:nvSpPr>
        <p:spPr>
          <a:xfrm>
            <a:off x="792000" y="1919160"/>
            <a:ext cx="789804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a tie occurs, the Final Jeopardy round is played to determine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round, one uncategorized question is displayed and each team places a point wager on the answer they believe is corr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ximum wager of a team is their total points acquired thus far in the game. Each team that correctly answers the question will add the points wagered to their total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team with the most points w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Final Jeopardy Round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4"/>
          <p:cNvSpPr/>
          <p:nvPr/>
        </p:nvSpPr>
        <p:spPr>
          <a:xfrm>
            <a:off x="822240" y="2144880"/>
            <a:ext cx="3432240" cy="216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object 5"/>
          <p:cNvSpPr/>
          <p:nvPr/>
        </p:nvSpPr>
        <p:spPr>
          <a:xfrm>
            <a:off x="4498920" y="2136600"/>
            <a:ext cx="4021200" cy="18259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object 6"/>
          <p:cNvSpPr/>
          <p:nvPr/>
        </p:nvSpPr>
        <p:spPr>
          <a:xfrm>
            <a:off x="792000" y="1919160"/>
            <a:ext cx="7894800" cy="37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creat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reate an inventory program that can be used for a range of different products (cds, dvds, software, etc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each part, build upon the last part so that both the old and new requirements are 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several parts to the project. The following slides offer an overview of the par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 the practice for this lesson for the complete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6"/>
          <p:cNvSpPr/>
          <p:nvPr/>
        </p:nvSpPr>
        <p:spPr>
          <a:xfrm>
            <a:off x="792000" y="1920960"/>
            <a:ext cx="7880400" cy="48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oose a product that lends itself to an inventory (for example, products in your home, school, or workplace: office supplies; music CDs; DVD movies; or softwar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Product cla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two constructo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rite getter/accessor and setter/mutator methods for four instance vari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verride the toString() method from the object class that will show a description of each object that includes the variable val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Java main class called ProductTester that creates and initializes six Product obje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ProductTester, display the product number, the name of the product, the number of units in stock, and the price of each uni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object 5"/>
          <p:cNvSpPr/>
          <p:nvPr/>
        </p:nvSpPr>
        <p:spPr>
          <a:xfrm>
            <a:off x="792000" y="1920960"/>
            <a:ext cx="77439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 Scanner to ProductTester to ask the user if they would like to add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92000" y="1920960"/>
            <a:ext cx="7863120" cy="26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ProductTester so the application can handle multiple items using an arr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method in the Product class that will calculate the value of the each inventory item, using the quantity on hand and pri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isplay the information in ProductTester for these products as was in Part 1. In addition, include the inventory value for each product by modifying the toString() method i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68400" indent="-45720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Arial"/>
              <a:buAutoNum type="alphaUcPeriod"/>
              <a:tabLst>
                <a:tab algn="l" pos="469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lement the Comparable Interface to create another method in the Product class to sort the array items by the name of the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2: Inventory Program Par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4"/>
          <p:cNvSpPr/>
          <p:nvPr/>
        </p:nvSpPr>
        <p:spPr>
          <a:xfrm>
            <a:off x="792000" y="1920960"/>
            <a:ext cx="7742520" cy="35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698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Inventory Program by creating a subclass of the product class that uses one additional unique feature of the product you chose (for the DVDs subclass, you could use movie title, for exampl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ubclass, create a method to calculate the value of the inventory of a product with the same name as the method previously created for the product class. The subclass method should also add a 5% restocking fee to the value of the inventory of that produ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698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ify the output to display this additional feature you have chosen and the restocking fe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5"/>
          <p:cNvSpPr/>
          <p:nvPr/>
        </p:nvSpPr>
        <p:spPr>
          <a:xfrm>
            <a:off x="792000" y="1919160"/>
            <a:ext cx="7710480" cy="38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final project will include a presentation which should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roduction and high level outline of what you are presen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ject overvie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the project requirements affected your desig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s and answ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lesson covers the following topic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Rehear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5"/>
          <p:cNvSpPr/>
          <p:nvPr/>
        </p:nvSpPr>
        <p:spPr>
          <a:xfrm>
            <a:off x="792000" y="1919160"/>
            <a:ext cx="7415280" cy="12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 sure to sufficiently rehearse your presentation and demonstr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75320"/>
            <a:ext cx="822960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Documentation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oject will include written documentation. This document should include the following se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view: Describe the problem and mention the development tool and most important featu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: Explain the high-level design of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sting: Describe how you tested your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llenges: Explain any challenges you encounter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lusion: Summarize the project including what you learned from working on thi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al Presentation Rubr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5"/>
          <p:cNvSpPr/>
          <p:nvPr/>
        </p:nvSpPr>
        <p:spPr>
          <a:xfrm>
            <a:off x="0" y="4896000"/>
            <a:ext cx="9144000" cy="9792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ject 6"/>
          <p:cNvSpPr/>
          <p:nvPr/>
        </p:nvSpPr>
        <p:spPr>
          <a:xfrm>
            <a:off x="792000" y="1919160"/>
            <a:ext cx="7877160" cy="35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r project will be evaluated using a rubric that evaluates your work against the following criter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imation/Interf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ation/Demons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792000" y="1919160"/>
            <a:ext cx="7015320" cy="17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lesson, you should have learned how 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a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sent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velop written documentation for the final 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tting Started on the Final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bject 4"/>
          <p:cNvSpPr/>
          <p:nvPr/>
        </p:nvSpPr>
        <p:spPr>
          <a:xfrm>
            <a:off x="0" y="2936880"/>
            <a:ext cx="9144000" cy="98100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object 5"/>
          <p:cNvSpPr/>
          <p:nvPr/>
        </p:nvSpPr>
        <p:spPr>
          <a:xfrm>
            <a:off x="792000" y="1919160"/>
            <a:ext cx="7647120" cy="39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pply your knowledge of NetBeans and Java and fine tune your presentation skills, you will work on a final class projec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the following project descriptions and choose a project to develop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in groups or individually, choose a project that meets your interests and skill lev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 the end of the project, you will give an oral presentation including visual aids to demonstrate your project solu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ject 4"/>
          <p:cNvSpPr/>
          <p:nvPr/>
        </p:nvSpPr>
        <p:spPr>
          <a:xfrm>
            <a:off x="792000" y="1919160"/>
            <a:ext cx="7540920" cy="23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project will be developed in Java using NetBea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eopardy! is an American television quiz show featuring trivia in a variety of subjects including: history, literature, the arts, pop culture, science, sports, and geograph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bject 5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ject 6"/>
          <p:cNvSpPr/>
          <p:nvPr/>
        </p:nvSpPr>
        <p:spPr>
          <a:xfrm>
            <a:off x="2679840" y="4270320"/>
            <a:ext cx="3786120" cy="13842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General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ject 5"/>
          <p:cNvSpPr/>
          <p:nvPr/>
        </p:nvSpPr>
        <p:spPr>
          <a:xfrm>
            <a:off x="792000" y="1919160"/>
            <a:ext cx="771372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is project, create a variation on the television gam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al is to answer the most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ame can be played as a quiz for one person or as a game between two players or tea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layer or team that accumulates the most points is the winn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derator should keep track of the points for each tea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Categ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bject 5"/>
          <p:cNvSpPr/>
          <p:nvPr/>
        </p:nvSpPr>
        <p:spPr>
          <a:xfrm>
            <a:off x="792000" y="1919160"/>
            <a:ext cx="7466040" cy="24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hree categories of ques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five questions in each category, each worth 100 to 500 poi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00 point questions are the easies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questions get progressively harder as the point values incre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bject 3"/>
          <p:cNvSpPr/>
          <p:nvPr/>
        </p:nvSpPr>
        <p:spPr>
          <a:xfrm>
            <a:off x="792000" y="885960"/>
            <a:ext cx="8056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ject 1: Jeopardy Round Categories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ject 4"/>
          <p:cNvSpPr/>
          <p:nvPr/>
        </p:nvSpPr>
        <p:spPr>
          <a:xfrm>
            <a:off x="792000" y="1919160"/>
            <a:ext cx="7177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re is an example of how the categories could loo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bject 6"/>
          <p:cNvSpPr/>
          <p:nvPr/>
        </p:nvSpPr>
        <p:spPr>
          <a:xfrm>
            <a:off x="2440080" y="2463840"/>
            <a:ext cx="4265640" cy="3908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Jeopardy Round Functiona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ject 8"/>
          <p:cNvSpPr/>
          <p:nvPr/>
        </p:nvSpPr>
        <p:spPr>
          <a:xfrm>
            <a:off x="6553080" y="6447240"/>
            <a:ext cx="213372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46240" indent="-220680" algn="r">
              <a:tabLst>
                <a:tab algn="l" pos="0"/>
                <a:tab algn="l" pos="24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219C-CE24-4633-A62E-E818DE216A99}" type="slidenum">
              <a:rPr b="0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898989"/>
                </a:solidFill>
                <a:latin typeface="Calibri"/>
              </a:rPr>
              <a:t>Copyright © 2013, Oracle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bject 4"/>
          <p:cNvSpPr/>
          <p:nvPr/>
        </p:nvSpPr>
        <p:spPr>
          <a:xfrm>
            <a:off x="0" y="3916440"/>
            <a:ext cx="9144000" cy="979560"/>
          </a:xfrm>
          <a:custGeom>
            <a:avLst/>
            <a:gdLst/>
            <a:ahLst/>
            <a:rect l="l" t="t" r="r" b="b"/>
            <a:pathLst>
              <a:path w="9144000" h="980439">
                <a:moveTo>
                  <a:pt x="0" y="979931"/>
                </a:moveTo>
                <a:lnTo>
                  <a:pt x="9143619" y="979931"/>
                </a:lnTo>
                <a:lnTo>
                  <a:pt x="9143619" y="0"/>
                </a:lnTo>
                <a:lnTo>
                  <a:pt x="0" y="0"/>
                </a:lnTo>
                <a:lnTo>
                  <a:pt x="0" y="97993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bject 5"/>
          <p:cNvSpPr/>
          <p:nvPr/>
        </p:nvSpPr>
        <p:spPr>
          <a:xfrm>
            <a:off x="792000" y="1919160"/>
            <a:ext cx="7558200" cy="40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player/team clicks a cell in the grid (“I’ll take operators for 100 points.”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1848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question is displayed. The moderator clicks to display the answ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correct, the points are added to the player/team sco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260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the answer is incorrect, the team loses that amount. The other player/team now gets to choose a cell in the gr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ject 6"/>
          <p:cNvSpPr/>
          <p:nvPr/>
        </p:nvSpPr>
        <p:spPr>
          <a:xfrm>
            <a:off x="0" y="5873760"/>
            <a:ext cx="9144000" cy="984240"/>
          </a:xfrm>
          <a:custGeom>
            <a:avLst/>
            <a:gdLst/>
            <a:ahLst/>
            <a:rect l="l" t="t" r="r" b="b"/>
            <a:pathLst>
              <a:path w="9144000" h="984250">
                <a:moveTo>
                  <a:pt x="0" y="983741"/>
                </a:moveTo>
                <a:lnTo>
                  <a:pt x="9143619" y="983741"/>
                </a:lnTo>
                <a:lnTo>
                  <a:pt x="9143619" y="0"/>
                </a:lnTo>
                <a:lnTo>
                  <a:pt x="0" y="0"/>
                </a:lnTo>
                <a:lnTo>
                  <a:pt x="0" y="98374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13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2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ject 1: Question and Answer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bject 4"/>
          <p:cNvSpPr/>
          <p:nvPr/>
        </p:nvSpPr>
        <p:spPr>
          <a:xfrm>
            <a:off x="1592280" y="2076480"/>
            <a:ext cx="5958000" cy="270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2T00:39:52Z</dcterms:created>
  <dc:creator/>
  <dc:description/>
  <dc:language>en-US</dc:language>
  <cp:lastModifiedBy>vgrinyak</cp:lastModifiedBy>
  <dcterms:modified xsi:type="dcterms:W3CDTF">2013-10-01T22:59:16Z</dcterms:modified>
  <cp:revision>3</cp:revision>
  <dc:subject/>
  <dc:title>Lesson 14 Final Project an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13-10-02T00:00:00Z</vt:filetime>
  </property>
  <property fmtid="{D5CDD505-2E9C-101B-9397-08002B2CF9AE}" pid="3" name="LastSaved">
    <vt:filetime>2013-10-01T00:00:00Z</vt:filetime>
  </property>
</Properties>
</file>